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FB54-7004-4C44-90FC-D5B3714F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9D1F-1B02-4588-95D0-7A42E2EE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838E-5F60-4027-BCD4-E66CF9AF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86C2-B563-40D8-8390-07FBEF8F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E5D-151F-41D9-A4A3-C8FFE61C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351B-5BBF-40A7-896E-103C9972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0BA-E1A6-4AEB-AE7E-17AACAA1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CFF4-C745-44EF-BDD9-12C97A86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358-1C16-48DD-814F-A92CCBE0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AD88-5A92-47BC-954D-8849B663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179B-723D-46E9-91D0-DF665C77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8CB8-A136-4F00-8A18-301F61E7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2433-AF49-41F1-9233-6BEB72EEB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da.gov/cdrh/present/dia_jan_2000/DIA-Jan-2000-3.gi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-rohan.sdsu.edu/~renglish/370/notes/chapt20/magnifying_glass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fnnc.org/copcar.gif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mpus Sans ITC"/>
              </a:rPr>
              <a:t>Can You Solve a Mystery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27907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mpus Sans ITC"/>
              </a:rPr>
              <a:t>Mystery Autho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David Ad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Cam Ja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Gertrude Wa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Boxcar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Lucinda Land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Meg MacKinto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Donald So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Encyclopedia 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John Bellai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1752480"/>
            <a:ext cx="388620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Judy Del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Pee Wee Sco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Elizabeth Lev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Invisible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Carolyn Ke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Nancy D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Bruce Hale</a:t>
            </a: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Chet Gec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Paul Zin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Characters in a Mys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The Det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character (or character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 who solves the mys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reader and the detective usually have the same information—so you can feel like you’re working to solve the mystery to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67280" y="533520"/>
            <a:ext cx="27910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Characters in a Mys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572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empus Sans ITC"/>
              </a:rPr>
              <a:t>Susp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he people the detective thinks caused the puzz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here are always more than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2808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empus Sans ITC"/>
              </a:rPr>
              <a:t>Sett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akes place in a place and time that seem 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2238480"/>
            <a:ext cx="3809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mpus Sans ITC"/>
              </a:rPr>
              <a:t>The Plo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352680" y="22860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Always begins with a puzz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something is mi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Someone is h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Someone is acting od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Always begins with a puzz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 detective doesn’t know the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empus Sans ITC"/>
              </a:rPr>
              <a:t>The reader doesn’t know the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371600"/>
            <a:ext cx="2559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mpus Sans ITC"/>
              </a:rPr>
              <a:t>Clu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66520" y="3200040"/>
            <a:ext cx="5867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Follow the steps to find the answers to the puzz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he reader also knows the clues and the fun comes in trying to see if you can guess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990800"/>
            <a:ext cx="24019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empus Sans ITC"/>
              </a:rPr>
              <a:t>Red Herring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Mystery writers will sometimes put in fake clues to take you and the detective off the tr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empus Sans ITC"/>
              </a:rPr>
              <a:t>Figuring out the solu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Mo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Who has a REASON to commit the cr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Opport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Who was ABLE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empus Sans ITC"/>
              </a:rPr>
              <a:t>commit the cr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76920" y="3048120"/>
            <a:ext cx="34290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empus Sans ITC"/>
              </a:rPr>
              <a:t>Solu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3276360"/>
            <a:ext cx="7086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Mysteries always end with the puzzle S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he detective usually explains how the puzzle was solved in the last pages so you can see if you guessed correc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1066680"/>
            <a:ext cx="22860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4:17:18Z</dcterms:created>
  <dc:creator>paradisj</dc:creator>
  <dc:description/>
  <dc:language>en-US</dc:language>
  <cp:lastModifiedBy>Judith M Paradis</cp:lastModifiedBy>
  <dcterms:modified xsi:type="dcterms:W3CDTF">2006-10-06T18:57:15Z</dcterms:modified>
  <cp:revision>4</cp:revision>
  <dc:subject/>
  <dc:title>Can You Solve a Mystery?</dc:title>
</cp:coreProperties>
</file>